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16D-7E9B-4EA3-A646-3A2D3294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96E-ACEB-40A8-B688-3D9F8A44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9EE-B537-4491-9A36-50BABB90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709-7BA9-4EEB-A77A-0329D16D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1F45-1078-4DF7-9058-66822C68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3D6C-F813-4B6C-80EF-AA8CD55E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6BB1-A86E-477F-852B-E65F36C4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A8B1-496B-48CE-A368-1C6463AF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1A3A-A15F-4DD2-AAD3-AD83D475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5203-DEE7-415E-B8CE-B7BA9872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42EC-206B-47D3-A702-5A35FF74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2B8-6E7E-4A39-860E-91509B28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25FF-A21A-47F5-B36F-2543E0CA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71D3-3C6C-409F-BACF-E5F29579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4B48-C4EB-4230-9D94-5D6562F8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E289-3A48-48F4-BEA0-6D7B6D2D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07AD-15C7-4E53-9049-010E8176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7CD-05BC-40CE-ACBD-4C27C973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6EF-FBE0-42AD-B1CC-F92A8B99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5A2-B628-4D4B-9381-DA18B38B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37C-49E1-45A3-AF96-101E3EDF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907-C6EC-401F-B5EF-124D53D7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DFE-7396-4E03-A099-DE49C0A2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D5B-EFE1-4A95-A9A0-355B2D1B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C996-3A7C-4384-AD89-6660D150175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6D45-EB14-4BDB-9F42-B61CC20F29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cc"/>
                </a:solidFill>
                <a:latin typeface="Arial"/>
              </a:rPr>
              <a:t>A térinformatika várható fejlődése</a:t>
            </a:r>
            <a:br>
              <a:rPr sz="4800"/>
            </a:b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Detrekői-Szabó: Térinformatika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sszimista jövőké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a fejlődés lelassul, az éves növekedés 5-1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sta jövőké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a jelenlegi fejlődési ütem megmarad, az éves növekedés mintegy 2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térinformatika szerkeze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1989000"/>
            <a:ext cx="1765440" cy="169416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076640"/>
            <a:ext cx="1800000" cy="1693800"/>
          </a:xfrm>
          <a:prstGeom prst="flowChartMerg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1989000"/>
            <a:ext cx="1800360" cy="1694160"/>
          </a:xfrm>
          <a:prstGeom prst="flowChartMerg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formáció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ndsz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1989000"/>
            <a:ext cx="1800000" cy="1694160"/>
          </a:xfrm>
          <a:prstGeom prst="flowChartMerg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06864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oló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20606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zervezé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SZ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4149720"/>
            <a:ext cx="1368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kalmaz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1557360"/>
            <a:ext cx="1728720" cy="287280"/>
          </a:xfrm>
          <a:prstGeom prst="rightArrow">
            <a:avLst>
              <a:gd name="adj1" fmla="val 50000"/>
              <a:gd name="adj2" fmla="val 1504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1557360"/>
            <a:ext cx="1584360" cy="287280"/>
          </a:xfrm>
          <a:prstGeom prst="leftArrow">
            <a:avLst>
              <a:gd name="adj1" fmla="val 50000"/>
              <a:gd name="adj2" fmla="val 13787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2997360"/>
            <a:ext cx="1765440" cy="1693800"/>
          </a:xfrm>
          <a:prstGeom prst="flowChartExtra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12000" y="2997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020000" y="4005360"/>
            <a:ext cx="792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4005360"/>
            <a:ext cx="86364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7080" y="5229360"/>
            <a:ext cx="1798560" cy="72072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20000" y="5300640"/>
            <a:ext cx="1511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oló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54080" y="371628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05160" y="37162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65760" y="42926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4005360"/>
            <a:ext cx="1368360" cy="287280"/>
          </a:xfrm>
          <a:prstGeom prst="rightArrow">
            <a:avLst>
              <a:gd name="adj1" fmla="val 50000"/>
              <a:gd name="adj2" fmla="val 11907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sszimista jövőké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egfelelő ismeretek és szakemberek hiány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magas költségek korlátozzák az alkalmazá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z adatok korlátolt hozzáférési lehetősége és magas 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gi korlát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elhasznált hálózatok túlterheltsé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térinformatikát el nem ismerő tudósok térhódítá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térinformatika elveszti identitásá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timista jövőké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lytatódik a hardverek fejlődés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hardverek sokfélesége növeksz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zoftverek szolgáltatásai gazdagabbá válnak, használatuk egyszerűsödik, áruk csökk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geometriai adatgyűjtők széles körben elterjedn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érinformatikai alkalmazások tömegessé válás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érinformatika alkalmazása szokássá vál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étrejönnek a helyi, a nemzeti, az európai és a világ adat-infrastruktúrá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övekszik a térinformatika szerepe a tudományb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6:13:46Z</dcterms:created>
  <dc:creator>varga</dc:creator>
  <dc:description/>
  <dc:language>en-US</dc:language>
  <cp:lastModifiedBy>varga</cp:lastModifiedBy>
  <dcterms:modified xsi:type="dcterms:W3CDTF">2009-12-06T17:59:54Z</dcterms:modified>
  <cp:revision>5</cp:revision>
  <dc:subject/>
  <dc:title>A térinformatika várható fejlődése Detrekői-Szabó: Térinformatika </dc:title>
</cp:coreProperties>
</file>